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4197-C557-492D-8C18-CF77AFF3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5C4-EFBE-47A4-95CA-79E3C810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4F40-1A9E-469E-9092-103C2E57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40DD-C13C-47BF-A199-1EDB4096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351-27E8-42ED-859D-A06C02EF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AB1-CAA0-4291-88FD-FF851CE9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F42-E795-4011-A3BD-0A45A2E7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537-0DEF-43A7-BF3D-03FEDA33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641-925F-49F2-90E3-4B6BA6DE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5981-F7FA-4B23-81C5-9ADF7560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D516-B7B8-4CDE-921C-EBDBC147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E16-EAC8-4556-9704-B7CA701F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3BC5-7DD6-40B9-A540-B638BC431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600200"/>
            <a:ext cx="8077320" cy="365760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838080"/>
            <a:ext cx="990720" cy="609840"/>
          </a:xfrm>
          <a:prstGeom prst="flowChartAlternate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oper Black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oper Black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oper Blac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77120" y="838080"/>
            <a:ext cx="914400" cy="60984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oper Black"/>
              </a:rPr>
              <a:t>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oper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5334120"/>
            <a:ext cx="914400" cy="609480"/>
          </a:xfrm>
          <a:prstGeom prst="flowChartAlternateProcess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oper Black"/>
              </a:rPr>
              <a:t>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oper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53080" y="5334120"/>
            <a:ext cx="1447920" cy="609480"/>
          </a:xfrm>
          <a:prstGeom prst="flowChartAlternateProcess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oper Black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oper Black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Cooper Black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oper Black"/>
              </a:rPr>
              <a:t>12</a:t>
            </a:r>
            <a:r>
              <a:rPr b="1" lang="en-US" sz="2400" spc="-1" strike="noStrike">
                <a:solidFill>
                  <a:srgbClr val="ffffff"/>
                </a:solidFill>
                <a:latin typeface="Cooper Black"/>
              </a:rPr>
              <a:t>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oper Blac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rtly_sunny_md_wht" descr=""/>
          <p:cNvPicPr/>
          <p:nvPr/>
        </p:nvPicPr>
        <p:blipFill>
          <a:blip r:embed="rId1"/>
          <a:stretch/>
        </p:blipFill>
        <p:spPr>
          <a:xfrm>
            <a:off x="0" y="1066680"/>
            <a:ext cx="1333440" cy="1185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95280" y="6019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Rockwell"/>
              </a:rPr>
              <a:t>Light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6019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Dark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31240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ight is Adsorb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hlorophy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286000"/>
            <a:ext cx="914400" cy="609480"/>
          </a:xfrm>
          <a:prstGeom prst="flowChartAlternate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hich spl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ARRWC083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1219320" cy="714600"/>
          </a:xfrm>
          <a:prstGeom prst="rect">
            <a:avLst/>
          </a:prstGeom>
          <a:ln w="0">
            <a:noFill/>
          </a:ln>
        </p:spPr>
      </p:pic>
      <p:pic>
        <p:nvPicPr>
          <p:cNvPr id="54" name="ARRWN108" descr=""/>
          <p:cNvPicPr/>
          <p:nvPr/>
        </p:nvPicPr>
        <p:blipFill>
          <a:blip r:embed="rId3"/>
          <a:stretch/>
        </p:blipFill>
        <p:spPr>
          <a:xfrm>
            <a:off x="1905120" y="2971800"/>
            <a:ext cx="468360" cy="511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24080" y="2438280"/>
            <a:ext cx="2971800" cy="181080"/>
          </a:xfrm>
          <a:prstGeom prst="rightArrow">
            <a:avLst>
              <a:gd name="adj1" fmla="val 50000"/>
              <a:gd name="adj2" fmla="val 41028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3809880"/>
            <a:ext cx="2743200" cy="152640"/>
          </a:xfrm>
          <a:prstGeom prst="leftArrow">
            <a:avLst>
              <a:gd name="adj1" fmla="val 50000"/>
              <a:gd name="adj2" fmla="val 4492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RRWN114" descr=""/>
          <p:cNvPicPr/>
          <p:nvPr/>
        </p:nvPicPr>
        <p:blipFill>
          <a:blip r:embed="rId4"/>
          <a:stretch/>
        </p:blipFill>
        <p:spPr>
          <a:xfrm>
            <a:off x="2666880" y="3048120"/>
            <a:ext cx="660600" cy="685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62320" y="1600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1600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3352680"/>
            <a:ext cx="152280" cy="1828800"/>
          </a:xfrm>
          <a:prstGeom prst="downArrow">
            <a:avLst>
              <a:gd name="adj1" fmla="val 50000"/>
              <a:gd name="adj2" fmla="val 30023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4038480"/>
            <a:ext cx="152280" cy="1219320"/>
          </a:xfrm>
          <a:prstGeom prst="downArrow">
            <a:avLst>
              <a:gd name="adj1" fmla="val 50000"/>
              <a:gd name="adj2" fmla="val 20017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057400"/>
            <a:ext cx="914400" cy="91440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ATP 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NADPH</a:t>
            </a:r>
            <a:r>
              <a:rPr b="1" lang="en-US" sz="9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35053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600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4419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d Energy and is recycl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utton_grn_md_wht" descr=""/>
          <p:cNvPicPr/>
          <p:nvPr/>
        </p:nvPicPr>
        <p:blipFill>
          <a:blip r:embed=""/>
          <a:stretch/>
        </p:blipFill>
        <p:spPr>
          <a:xfrm>
            <a:off x="6477120" y="22860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419720" y="762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53341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00:44:32Z</dcterms:created>
  <dc:creator>Valued Gateway Client</dc:creator>
  <dc:description/>
  <dc:language>en-US</dc:language>
  <cp:lastModifiedBy>Valued Gateway Client</cp:lastModifiedBy>
  <dcterms:modified xsi:type="dcterms:W3CDTF">2001-11-02T05:15:13Z</dcterms:modified>
  <cp:revision>7</cp:revision>
  <dc:subject/>
  <dc:title>Photosynthesis</dc:title>
</cp:coreProperties>
</file>